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F75-37C8-48E4-A4AA-F147049A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E5F-E79A-4980-8256-E0F45376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D45-338E-4DEB-AA31-7425EBDF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217-8172-476E-9A05-7FB1F73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787-7949-4E4F-AEE1-C478EEA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F21-6A9D-4ED4-817F-C080502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E4D-8A28-4385-BBD9-CCE7C43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A6D-92D4-4705-87CE-BECE3AEA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9EE-DAF7-4165-ABA9-1B452170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462-FB05-4EEE-986B-ADAB4796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7B0-A9F0-4399-8EF0-B6C2FB0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528-B348-48F8-A3D0-32DC502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64AC-12B3-4139-A31F-E65A1A9CA72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0" y="0"/>
            <a:ext cx="9144000" cy="78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NEX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VITAMINAS</a:t>
            </a:r>
            <a:r>
              <a:rPr b="1" lang="es-ES_tradnl" sz="36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que particip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en 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METABOLISMO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omic Sans MS"/>
                <a:ea typeface="Arial"/>
              </a:rPr>
              <a:t>AMINOÁC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b6"/>
          <p:cNvPicPr/>
          <p:nvPr/>
        </p:nvPicPr>
        <p:blipFill>
          <a:blip r:embed="rId1"/>
          <a:stretch/>
        </p:blipFill>
        <p:spPr>
          <a:xfrm>
            <a:off x="324000" y="1708200"/>
            <a:ext cx="2881080" cy="1792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8"/>
          <p:cNvSpPr/>
          <p:nvPr/>
        </p:nvSpPr>
        <p:spPr>
          <a:xfrm>
            <a:off x="677520" y="3500280"/>
            <a:ext cx="1808280" cy="9471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Fosfato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Piridox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144360" y="4572000"/>
            <a:ext cx="896472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FUNCION: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UNA COENZIMA DE ENZIMAS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TABOLISMO DE  LOS AMINOÁCIDOS (TRANSAMINACIÓN-DESAMINACIÓN-DESCARBOXILACIÓ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ÍNTESIS DEL H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3419640" y="1500120"/>
            <a:ext cx="460836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ar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5" descr="trigo"/>
          <p:cNvPicPr/>
          <p:nvPr/>
        </p:nvPicPr>
        <p:blipFill>
          <a:blip r:embed="rId2"/>
          <a:stretch/>
        </p:blipFill>
        <p:spPr>
          <a:xfrm>
            <a:off x="6985080" y="2492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Calibri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Fuentes – Fu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01480" y="928800"/>
            <a:ext cx="8642520" cy="311544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Requerimientos  nutricionale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: 2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/g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dultos 1,1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&gt;50 años 1,5-1,7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ujeres embarazas y en lactancia 1,9-2,0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iños 0,5-0,6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68360" y="5877000"/>
            <a:ext cx="48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: Muy ra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7120" y="4643280"/>
            <a:ext cx="3672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Hipervitaminosis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Tóx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214720" y="4071960"/>
            <a:ext cx="4537080" cy="5205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ivel máximo: 100 mg/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4143240" y="5357880"/>
            <a:ext cx="14414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572080" y="5000760"/>
            <a:ext cx="32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Neuropat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00040" y="0"/>
            <a:ext cx="864396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Vitaminas Hidrosolubles</a:t>
            </a:r>
            <a:r>
              <a:rPr b="1" lang="es-AR" sz="2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COMPLEJO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Calibri"/>
              </a:rPr>
              <a:t>PIRIDOXINA O VITAMINA B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Comic Sans MS"/>
              </a:rPr>
              <a:t>Necesidades diar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9:54:55Z</dcterms:created>
  <dc:creator>ali y facu</dc:creator>
  <dc:description/>
  <dc:language>en-US</dc:language>
  <cp:lastModifiedBy>ali y facu</cp:lastModifiedBy>
  <dcterms:modified xsi:type="dcterms:W3CDTF">2016-10-17T20:21:44Z</dcterms:modified>
  <cp:revision>1</cp:revision>
  <dc:subject/>
  <dc:title>Diapositiva 1</dc:title>
</cp:coreProperties>
</file>